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4.png" ContentType="image/png"/>
  <Override PartName="/ppt/media/image6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E5B-ADC7-4D51-8FE2-F6EFE1A827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5A1E-C425-4852-AE94-8335F0CABBC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2E0-6FC8-496F-814C-98CBBE46F8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945-45F2-4FCD-AC5A-ACEC8793A1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FAAE-1067-4FA6-811C-B9F36622C9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F7A-496D-48A0-9B72-9E436B6C1A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8560"/>
                <a:tab algn="l" pos="1798560"/>
                <a:tab algn="l" pos="2698920"/>
                <a:tab algn="l" pos="3597120"/>
                <a:tab algn="l" pos="4497480"/>
                <a:tab algn="l" pos="5397480"/>
                <a:tab algn="l" pos="6297480"/>
                <a:tab algn="l" pos="7196040"/>
                <a:tab algn="l" pos="8096400"/>
                <a:tab algn="l" pos="8996400"/>
                <a:tab algn="l" pos="9894960"/>
                <a:tab algn="l" pos="10058400"/>
              </a:tabLst>
            </a:pPr>
            <a:fld id="{CA09B324-134C-4217-A4A1-B7EFCEEAD5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038-84DA-4941-A809-F61A189A14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E09C-D8F9-46B0-8C4C-24F6E4FF85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12C-1B6E-49FB-9F89-A61C813C07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E89-F02C-424F-87BF-9FA7CC4A61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55C-658E-4D66-8A7F-69DE8386E6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0F8-95E7-4DF4-A9F5-6850212BA3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22E-64EB-4610-B116-71BC463C6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463-077F-46DF-A41B-CAB0BBA8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AFD-C698-470E-A676-F4FFBD89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16F-E76B-40CA-87F9-ABE45906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7AF-0FAA-47EB-B38B-FBBAFD92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5624-8CEC-4343-8363-B4BB3BDF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43D8-F12B-46C0-A9BE-BFA8FA89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F7EF-CB57-42E4-AE42-8A01A4C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36FA-FA76-4007-A513-66A7C9CF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881F-4A3D-42C0-9A5D-31E82C46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C9A4-66EF-4A9C-8D4D-1E4285D9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B1A6-1B47-4EAA-B0CF-D63B799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520-0765-4751-9170-8EF0EE7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9D7E-CD6A-463F-B25B-72649BF9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DCCB-9167-4C81-A8A9-D37A329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D119-3046-43CC-9C05-C34BDAA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A1DA-E5F6-4002-B6A0-CB7B407C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C9D-F26D-47B0-AEEF-F62AC685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671-B327-42F9-84CA-B49E9EC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B5F-7A89-4E7C-88F9-3F70A50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02A-FEC4-487C-80E7-A2B9D81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EF4-BE88-4E4A-9C16-7D06D8C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035-21DD-4742-9CD1-4884A8B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A96-52AB-44E4-A6EB-0317F7D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087-1B4D-4382-BBB4-943740E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A8ED-8D60-4B71-B7DF-8FFFE68D384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9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26B-9A80-4E59-BCC0-9F359F5F1C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hyperlink" Target="http://www.ege.edu.ru/ru/main/legal-documents/index.php?id_4=17886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5494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Готовимся вместе к ГИ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Родительское собрание в 9 класс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МБОУ ООШ №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435880" cy="1655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54524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38E-4835-4FB4-BDEF-E805B7C0D0B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03640" y="3213000"/>
            <a:ext cx="3186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Участники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700280"/>
            <a:ext cx="7740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К ГИА допускаются обучающиеся, имеющие годовые отметк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по вс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учебным предметам учебного плана 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 клас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не ниже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Aharoni"/>
              </a:rPr>
              <a:t>удовлетвор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082600" cy="254628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http://idist.ru/Documets/Uchotdel/9_klass.jpg"/>
          <p:cNvPicPr/>
          <p:nvPr/>
        </p:nvPicPr>
        <p:blipFill>
          <a:blip r:embed="rId1"/>
          <a:stretch/>
        </p:blipFill>
        <p:spPr>
          <a:xfrm>
            <a:off x="6948360" y="4292640"/>
            <a:ext cx="2051280" cy="1920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Участники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7280" y="1557360"/>
            <a:ext cx="7499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допуске к государственной итоговой аттестации принимается педагогическим советом образовательной организации и оформляется распорядительным актом образовательной организац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днее 5 м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его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079-044F-4C6E-A438-32372F470CD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ОСОБЕННОСТИ ОГЭ-2023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для всех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асписание ОГЭ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и продолжительность экзаменов по предмету в 2024  году устанавливает соответствующий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иказ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Министерства образования и науки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оки основного периода с 24 мая по 1 июля 202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4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рас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заданий стандартизированной формы (КИ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специальных бланков для оформления ответов на 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4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3" name="Содержимое 3"/>
          <p:cNvSpPr/>
          <p:nvPr/>
        </p:nvSpPr>
        <p:spPr>
          <a:xfrm>
            <a:off x="1547640" y="1413000"/>
            <a:ext cx="7139160" cy="4713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исание проведения и продолжительности экзаменов утверждается Федеральной службой по надзору в сфере образования и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сроки для сдачи экзамена участниками ОГЭ, пропустившими экзамен в основные сроки по уважительным причинам или подавшими апелляци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2 по 13 сентября 202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амены начинаются по местному времени в 10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одготовительные мероприятия (проведение инструктажа, заполнение области регистрации бланков ОГЭ и др.) выделяется время до 10-15 минут, которое не включается в продолжительность выполнения экзаменацио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тоговое собеседование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7280" y="980640"/>
            <a:ext cx="74995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враля 202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ся итоговое собеседование по учебному предмету «русский язы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собеседова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удут влиять на допус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 к ГИА-9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срок: 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4 февраля 202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е сроки: 13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рта 20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21D8-99F3-4DFA-BEE2-AFA6843C1A54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23160" cy="936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125000"/>
            <a:ext cx="7931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собеседование по русскому языку  направлено на проверку навыков спонтанной реч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участнику будет даваться 1-2 мину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беседования включает следующие типы заданий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тение текста вслух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сказ текста с привлечением дополнительной информации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нологическое высказывание по одной из выбранных тем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иалог с экзаменатором-собеседнико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ы для чтения, которые будут предложены участникам собеседования, - это тексты о выдающихся людя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7BE-52CD-4D23-8AF0-E024439AE8F5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80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2906280"/>
            <a:ext cx="723564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ная часть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ная часть по русскому языку будет состоять из четыре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– чтение небольшого текста вслух. Тексты для чтения будут содержать информацию о выдающихся людях прошлого и современности. Время на подготовку – 2 ми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- пересказ текста с привлечением дополнительной информации (с включением цита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яя задание 3,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остроить связное монологическое высказывание по одной из выбранных тем с опорой на план. Время на подготовку – 1 мину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50160" cy="836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58560" y="836640"/>
            <a:ext cx="7885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работы каждому участнику будет отводиться около 15 минут. В процессе проведения собеседования будет вестись аудиозапись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полнения заданий работы будет осуществляться экспертом непосредственно в процессе ответа по специально разработанным критериям с учетом соблюдения норм современного русского литературн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, что итоговое собеседование выпускники 9 классов будут проходи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их шко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оно будет по систем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зачет»/«незачет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3F3-B213-4548-A188-E307840419FC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E3A-D825-4794-A2AA-7E47F2F109A3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85.sochi-schools.ru/wp-content/uploads/2016/03/G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187280" y="62064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Проведение государственной 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ыпускников 9 классов в 2024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981E-D4C2-4CB9-816A-315020DCF882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19D-C857-465A-9C6C-13270FB9EDFE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64AD-7AB5-42E6-87D5-2DD442E0FECF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68360" y="274680"/>
            <a:ext cx="8424720" cy="56196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0ae4"/>
                </a:solidFill>
                <a:latin typeface="Times New Roman"/>
                <a:ea typeface="Microsoft YaHei"/>
              </a:rPr>
              <a:t>ГИА-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МИНИМАЛЬНОЕ КОЛИЧЕСТВО БАЛЛОВ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Распоряжением Рособрнадзора устанавливается минимальное количество баллов по всем предметам ОГЭ-2024, подтверждающее освоение участниками экзаменов основных общеобразовательных программ среднего  общего образования в соответствии с требованиями федерального государственного образовательного стандарта среднего 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 ниже минимального количества баллов по двум  предметам, то он может пересдать эти экзамены в этом же году. Сделать это можно в резервные дни в текущем году, которые устанавливаются приказом Министерства образования и науки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ы, ниже минимального количества баллов по трём предметам, он сможет пересдать ОГЭ в  сентяб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он не пересдал в сентября, то он остаётся на повторный год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901800" y="26820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рибытие в ПП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участники ОГЭ должны явиться в ППЭ в день и время, указанные в пропуске, имея при себ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умент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стоверяющий личность (свидетельство о рождении не является таким документ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левую или капиллярную ручку 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рными чернил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ые устройства и материалы, которые можно использовать по отдельным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0" y="1557000"/>
            <a:ext cx="4392720" cy="4568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 прослушать инструктаж, проводимый организаторами в ауди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ть от организаторов  КИМы и чернов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5" descr="38767CAFZBM9ACAS4R67YCAPXEKLXCAAPN3G7CAPH70TVCAJRO4OVCAOZP5LNCA16BZ9TCAQWK55VCAI32HLCCAH0HPTYCAHQSZKJCA88MDIUCAKP44E1CA0QLUX4CA9WJG7SCA8ZQFZYCA5DDSPQCA013MSF.jpg"/>
          <p:cNvPicPr/>
          <p:nvPr/>
        </p:nvPicPr>
        <p:blipFill>
          <a:blip r:embed="rId1"/>
          <a:stretch/>
        </p:blipFill>
        <p:spPr>
          <a:xfrm>
            <a:off x="684360" y="1844640"/>
            <a:ext cx="37321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УЧАСТНИКИ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62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7280" y="1268280"/>
          <a:ext cx="7956720" cy="5286600"/>
        </p:xfrm>
        <a:graphic>
          <a:graphicData uri="http://schemas.openxmlformats.org/drawingml/2006/table">
            <a:tbl>
              <a:tblPr/>
              <a:tblGrid>
                <a:gridCol w="1971720"/>
                <a:gridCol w="1471680"/>
                <a:gridCol w="4513320"/>
              </a:tblGrid>
              <a:tr h="1033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рфографические слова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Аппаратура, которая может обеспечить качественное воспроизведение аудиозаписей с компакт-диска (формат аудиозаписи –</a:t>
                      </a:r>
                      <a:r>
                        <a:rPr b="0" lang="en-US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3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Справочные материалы, содержащие таблицу квадратов двузначных чисел, основные формулы по алгебре и геометр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ается использовать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линейку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алькуляторы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экзаме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е  использую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187280" y="0"/>
            <a:ext cx="7201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 правовая 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12.2012 г. №273-ФЗ (ст. 53,19,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, Рособрнадзора № 232/551 от 04.04.2023 г. «Об утверждении Порядка проведения государственной итоговой аттестации по образовательным программам основного общего образ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особрнадзора № 871 от 11.08.2022 г. «Об утверждении Порядка разработки, использования и хранения контрольных измерительных материалов при проведении государственной итоговой аттестации по образовательным программам основного общего образования и Порядка разработки, использования и хранения контрольных измерительных материалов при проведении государственной итоговой аттестации по образовательным программам среднего общего образования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1152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16000" y="1628640"/>
          <a:ext cx="7632720" cy="4434120"/>
        </p:xfrm>
        <a:graphic>
          <a:graphicData uri="http://schemas.openxmlformats.org/drawingml/2006/table">
            <a:tbl>
              <a:tblPr/>
              <a:tblGrid>
                <a:gridCol w="2744640"/>
                <a:gridCol w="1741680"/>
                <a:gridCol w="3146400"/>
              </a:tblGrid>
              <a:tr h="1220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16000" y="1332000"/>
          <a:ext cx="7848720" cy="4964040"/>
        </p:xfrm>
        <a:graphic>
          <a:graphicData uri="http://schemas.openxmlformats.org/drawingml/2006/table">
            <a:tbl>
              <a:tblPr/>
              <a:tblGrid>
                <a:gridCol w="1635120"/>
                <a:gridCol w="1765440"/>
                <a:gridCol w="4448160"/>
              </a:tblGrid>
              <a:tr h="973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3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Книги с текстами художественных произведений </a:t>
                      </a: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 сборники лирики, в которых не должно быть вступительных статей и комментари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ользование личными текстами художественных произведений и сборниками лирики участникам ОГЭ запреще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программируемый калькулят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1125360"/>
          <a:ext cx="7956720" cy="5696280"/>
        </p:xfrm>
        <a:graphic>
          <a:graphicData uri="http://schemas.openxmlformats.org/drawingml/2006/table">
            <a:tbl>
              <a:tblPr/>
              <a:tblGrid>
                <a:gridCol w="1524240"/>
                <a:gridCol w="1724040"/>
                <a:gridCol w="4708440"/>
              </a:tblGrid>
              <a:tr h="1130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2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«Периодическая система химических элементов Д.И. Менделеева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Таблица растворимости солей, кислот и оснований в вод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Электрохимический ряд напряжений металлов (ИК участника ОГЭ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арандаш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13520" cy="1214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71640" y="1197000"/>
          <a:ext cx="8165880" cy="5578560"/>
        </p:xfrm>
        <a:graphic>
          <a:graphicData uri="http://schemas.openxmlformats.org/drawingml/2006/table">
            <a:tbl>
              <a:tblPr/>
              <a:tblGrid>
                <a:gridCol w="2109600"/>
                <a:gridCol w="1633680"/>
                <a:gridCol w="4422600"/>
              </a:tblGrid>
              <a:tr h="91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географические атласы для 7, 8 и 9 клас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5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3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1 резервный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Для выполнения задания 19 необходима программа для работы с электронными таблиц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 компьютере должны быть установлены знакомые участникам экзамена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71640" y="1052640"/>
          <a:ext cx="8172360" cy="5805360"/>
        </p:xfrm>
        <a:graphic>
          <a:graphicData uri="http://schemas.openxmlformats.org/drawingml/2006/table">
            <a:tbl>
              <a:tblPr/>
              <a:tblGrid>
                <a:gridCol w="2162160"/>
                <a:gridCol w="1890720"/>
                <a:gridCol w="4119480"/>
              </a:tblGrid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ыполнение письменной части рабо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+ 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на у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твет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бщее время на проведение экзам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долж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евышать 36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6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 (для каждой аудитори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 аудитории для проведения письменной части экзамена необходимо установить звуковоспроизводящее устройство (компьютер с колонками), обеспечивающее качественное воспроизведение аудиозаписи в формате МР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экзамена выпускник получает у администрации своего образовательного учреждения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домление на экзамен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указаны предмет ОГЭ, адрес, дата и время начала экзамена, код образовательного учреждения и иная информ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(пункт приема экзамена) выпускников текущего года сопровождают представители от МБОУ ООШ № 2 (классные руководител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ые материалы доставляются в ППЭ уполномоченными представителями экзаменационной коми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35344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59280" y="54936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 оборудуются стационарными и переносными металлоискателями, средствами видеонаблю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2A3-55A4-4BE5-B7FB-661304DE1052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6" descr=""/>
          <p:cNvPicPr/>
          <p:nvPr/>
        </p:nvPicPr>
        <p:blipFill>
          <a:blip r:embed="rId1"/>
          <a:stretch/>
        </p:blipFill>
        <p:spPr>
          <a:xfrm>
            <a:off x="395280" y="2274840"/>
            <a:ext cx="6337440" cy="4156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www.iprofesional.com/adjuntos/jpg/2011/07/345469.jpg"/>
          <p:cNvPicPr/>
          <p:nvPr/>
        </p:nvPicPr>
        <p:blipFill>
          <a:blip r:embed="rId2"/>
          <a:stretch/>
        </p:blipFill>
        <p:spPr>
          <a:xfrm>
            <a:off x="108000" y="115920"/>
            <a:ext cx="2093760" cy="1779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824200" cy="2533680"/>
          </a:xfrm>
          <a:prstGeom prst="rect">
            <a:avLst/>
          </a:prstGeom>
          <a:ln w="0">
            <a:noFill/>
          </a:ln>
        </p:spPr>
      </p:pic>
      <p:sp>
        <p:nvSpPr>
          <p:cNvPr id="212" name="Содержимое 5"/>
          <p:cNvSpPr/>
          <p:nvPr/>
        </p:nvSpPr>
        <p:spPr>
          <a:xfrm>
            <a:off x="6948360" y="1773360"/>
            <a:ext cx="1871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http://www.magobr.ru/Upload/images/%D0%93%D0%98%D0%90%209.jpg"/>
          <p:cNvPicPr/>
          <p:nvPr/>
        </p:nvPicPr>
        <p:blipFill>
          <a:blip r:embed="rId4"/>
          <a:stretch/>
        </p:blipFill>
        <p:spPr>
          <a:xfrm>
            <a:off x="7620120" y="592128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 ВРЕМЯ ОГЭ ЗАПРЕЩАЮТСЯ: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11280" y="1417320"/>
            <a:ext cx="4753080" cy="4708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гов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авания с ме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саж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любыми материалами и предм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мобильными телефонами и иными средствами связи, любыми электронно-вычислительными устр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справочными материалами кроме тех, которые указаны  Рособрнадз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ждение по ППЭ во время экзамена без сопрово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Содержимое 8" descr="8V4CFCAL26TQQCA0VO8RWCA51OJTICA1IAFX6CAQKJGVUCA4MW958CAEBGV3LCABZ1GI7CA1117Q7CAAFCEHGCAW51B4ECA2BO4BRCA6P8EZNCACYZVIUCAK3PGK0CA9ZF5DBCAA8LNEKCAKL7022CA8D5CPD.jpg"/>
          <p:cNvPicPr/>
          <p:nvPr/>
        </p:nvPicPr>
        <p:blipFill>
          <a:blip r:embed="rId1"/>
          <a:stretch/>
        </p:blipFill>
        <p:spPr>
          <a:xfrm>
            <a:off x="0" y="1285920"/>
            <a:ext cx="3409920" cy="318276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4" descr="V3COCCADLIWERCA1FR5Z3CA9II0L3CACMRIDPCAYVS3NCCAOTAAUJCAY9DKBVCAWGS72TCA29F06JCA0CJ5ZOCA3V474FCAZNJF0ACA2JRE5QCAI8PQVACAG3EAKYCA11RV4MCA7NBZOVCANUZTHMCA3FU4L3.jpg"/>
          <p:cNvPicPr/>
          <p:nvPr/>
        </p:nvPicPr>
        <p:blipFill>
          <a:blip r:embed="rId2"/>
          <a:stretch/>
        </p:blipFill>
        <p:spPr>
          <a:xfrm>
            <a:off x="1568520" y="44686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Объект 5" descr=""/>
          <p:cNvPicPr/>
          <p:nvPr/>
        </p:nvPicPr>
        <p:blipFill>
          <a:blip r:embed="rId1"/>
          <a:stretch/>
        </p:blipFill>
        <p:spPr>
          <a:xfrm>
            <a:off x="109440" y="304920"/>
            <a:ext cx="9034560" cy="590688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DD5-9EFD-41B0-8217-AD24F2E2A16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D320-7643-43FB-810E-01577027CF91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shkola8kalin.ucoz.ru/gia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УДАЛЕНИЕ С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нарушении правил и отказе в их соблюдени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рганизаторы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совместно с уполномоченным представителем ГЭК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праве удалить участника ОГЭ с экзамена с внесением записи в протокол проведения экзамена в аудитории с указанием причины удаления. На бланках и в пропуске проставляется метка о факте удаления с экзамен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96360" cy="1569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050560" y="2205000"/>
            <a:ext cx="61786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верка экзаменационных работ участников государственной итоговой аттестации и их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87280" y="3789360"/>
            <a:ext cx="2276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9840" y="189000"/>
            <a:ext cx="8713800" cy="1079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 экзаменационных работ участников государственной итоговой аттестации и их оценивание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кзаменационных работ участников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осуществляться экспертами предметных комиссий  централизованно (по    аналогии Е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7520" cy="1417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Утверждение, изменение и (или) аннулирование результатов государственной итоговой аттестации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4256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осударственной итоговой аттестации признаются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довлетворите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лучае, если обучающийся по обязательным учебным предметам набрал количество баллов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ниже минимальног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DEC-A1E6-4126-9E73-B521834DF3D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56720" y="333360"/>
            <a:ext cx="380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763640" y="344520"/>
            <a:ext cx="7129440" cy="10015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331640" y="1600200"/>
            <a:ext cx="374004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арушении установленного порядка проведения ОГЭ – в день экзамена после сдачи бланков ОГЭ до выхода их ПП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24320" y="1600200"/>
            <a:ext cx="37404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есогласии с выставленными баллами по ОГЭ – в течение двух рабочих дней после официального объявления результатов экзамена и ознакомления с 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alibri"/>
              </a:rPr>
              <a:t>Результаты  рассмотрения апелляции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До повторной сдачи ОГЭ в текущем году  не допускаются 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явившие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экзамен без уважительной пр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результаты которых были отменены ГЭК, в связи с выявлением фактов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арушения участни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ГЭ установленного порядка проведения О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ПЭ не мен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удитории не бол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15 участников ОГЭ не более 1 общественного наблюда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логом успешной сдачи экзамена является качественное освоение школьной программы, повторение и систематизация изученных тем по предметам, развитие различных умений (читать и анализировать содержание текста, решать задачи и т.п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540640" cy="15987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Формы проведения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7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экзамен –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использованием экзаменационных материалов, представляющих собой комплексы заданий стандартизированной формы (контрольных измерительных материалов -КИ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11A3-8149-4D41-99F1-5359E35B323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http://mou-udsosh1.narod.ru/EGE/16-17/ogeh.png"/>
          <p:cNvPicPr/>
          <p:nvPr/>
        </p:nvPicPr>
        <p:blipFill>
          <a:blip r:embed="rId1"/>
          <a:stretch/>
        </p:blipFill>
        <p:spPr>
          <a:xfrm>
            <a:off x="6137280" y="5057640"/>
            <a:ext cx="2857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ред экзаменом необходимо ознакомиться с демонстрационными вариантами КИМ, изучить все содержащиеся в них инструкции, чтобы хорошо понимать, сколько времени отведено на работу, в каком порядке выполнять задания, как записывать от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Одной из основ подготовки к ОГЭ может стать кодификатор проверяемых элементов содержания: он содержит перечень тем, по которым могут быть сформулированы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одготовка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 к итоговой аттестации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оведение бесед, классных часов, родительских собраний, мини-педсоветов  по вопросам готовности к  ГИА в 2023-2024 учебно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оздание и обеспечение доступа к справочным, информационным и учебно-тренировочным материа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Бесплатные факультативы, консультации, индивидуально-групповые за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юбые сборники тренировочных заданий или вариантов могут играть в подготовке только вспомогательную 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спешной сдаче ОГЭ помогает и правильный психологический настрой, уверенность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сем учащимся, выпускникам 2024 года, доступны экзаменационные задания по ОГЭ для скачивания или для работы онлайн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убликация открытого банка заданий ОГЭ  на сайте Федерального института педагогических измерений www.fipi.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 нем представлены все типы экзаменационных заданий по всем предметам ОГЭ. Для удобства работы задания в открытом банке собраны по тематическим разделам —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80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58656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открытый банк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ши в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аны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писать (русский язы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ак готовиться к ГИА?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ая итоговая аттестац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ходит по школьной программе, а значит, для подготовки  потребуется повторение определённых тем, а также школьные учебники, для того чтобы устранить возникнувший пробел в знаниях по конкретной те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713800" cy="14860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Приказ Министерства образования и наук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9 января 2017 г. № 3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«О внесении изменения в Порядок заполнения, учета и выдачи аттестатов об основном общем и среднем общем образовани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и их дубликатов, утвержденный приказом Министерства образования и науки </a:t>
            </a:r>
            <a:br>
              <a:rPr sz="1400"/>
            </a:br>
            <a:r>
              <a:rPr b="1" lang="ru-RU" sz="14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14 февраля 2014 г. № 115 »</a:t>
            </a:r>
            <a:endParaRPr b="1" lang="en-US" sz="1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6000" y="1699920"/>
            <a:ext cx="802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усскому языку и математике и двум учебным предмета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даваемым по выбор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егося, определяются ка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е арифметическое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довой и экзаменационной отметок выпускника и выставляются в аттестат целыми числами в соответствии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ми</a:t>
            </a:r>
            <a:r>
              <a:rPr b="1" lang="ru-RU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ематического округ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ги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ебным предметам выставляются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овой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метки выпускника за 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7EE-1A6C-4B99-BE44-8AEF667BB1A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0" y="11592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333000"/>
            <a:ext cx="7620120" cy="1366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Приказ Министерства образования и науки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ссийской Федерации от 14 февраля 2014 г. № 115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«Об утверждении Порядка заполнения, учета и выдачи аттестатов об основном общем и среднем общем образовании </a:t>
            </a:r>
            <a:br>
              <a:rPr sz="2000"/>
            </a:br>
            <a:r>
              <a:rPr b="1" lang="ru-RU" sz="2000" spc="-1" strike="noStrike">
                <a:solidFill>
                  <a:srgbClr val="240ae4"/>
                </a:solidFill>
                <a:latin typeface="Calibri"/>
                <a:ea typeface="Times New Roman"/>
              </a:rPr>
              <a:t>и их дубликатов»</a:t>
            </a:r>
            <a:endParaRPr b="1" lang="en-US" sz="2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71280" y="1773360"/>
            <a:ext cx="8172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т об основном общем образова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отлич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ложение к нему выдаются выпускникам 9 класса, завершившим обучение по образовательным программам основного общего образования, успешно прошедшим государственную итоговую аттестацию и имеющи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овые отмет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тлично" по всем учебным предметам учебного плана, изучавшимся на уровне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0E5-22D5-430F-B8DB-26AF20A3959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0" y="11592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6497640" y="4653000"/>
            <a:ext cx="2646360" cy="2205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1.  «Душевный поко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ражать уверенность в его силах, не пугайте пров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регулировать свое волнение и не переносить его н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йте своему ребенку готовность помочь и помогайте в различных вопросах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ИА – 9 в 2024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4 году количество сдаваемых экзаменов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332000" y="1773000"/>
            <a:ext cx="66247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2.  «Физическое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гнетайте атмосферу накануне экзам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уверенность у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 за его самочувств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режим подготовки ребёнка, не допускайте перегрузок. Организуйте прогулки на свежем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итание ребёнка. Такие продукты, как рыба, творог, орехи, курага т.д. стимулируют работу головного мозг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3280" y="272520"/>
            <a:ext cx="5940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ш ребенок единственный и неповторимый. Особенный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любой надежный рецепт, опробованный поколениями родителей, может оказаться бесполез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то, что поможет именно вашему сыну, доче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, размышляйте, обсуждайте с ребенком все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95280" y="990720"/>
            <a:ext cx="3024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grpSp>
        <p:nvGrpSpPr>
          <p:cNvPr id="112" name="Группа 17"/>
          <p:cNvGrpSpPr/>
          <p:nvPr/>
        </p:nvGrpSpPr>
        <p:grpSpPr>
          <a:xfrm>
            <a:off x="609480" y="1320840"/>
            <a:ext cx="6343920" cy="5203800"/>
            <a:chOff x="609480" y="1320840"/>
            <a:chExt cx="6343920" cy="5203800"/>
          </a:xfrm>
        </p:grpSpPr>
        <p:sp>
          <p:nvSpPr>
            <p:cNvPr id="113" name="Прямоугольник 3"/>
            <p:cNvSpPr/>
            <p:nvPr/>
          </p:nvSpPr>
          <p:spPr>
            <a:xfrm>
              <a:off x="2705040" y="1320840"/>
              <a:ext cx="4235760" cy="423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ambria"/>
                </a:rPr>
                <a:t>2023/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Стрелка вниз 4"/>
            <p:cNvGrpSpPr/>
            <p:nvPr/>
          </p:nvGrpSpPr>
          <p:grpSpPr>
            <a:xfrm>
              <a:off x="3236760" y="1859040"/>
              <a:ext cx="1530000" cy="432720"/>
              <a:chOff x="3236760" y="1859040"/>
              <a:chExt cx="1530000" cy="432720"/>
            </a:xfrm>
          </p:grpSpPr>
          <p:pic>
            <p:nvPicPr>
              <p:cNvPr id="115" name="Стрелка вниз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6760" y="1859040"/>
                <a:ext cx="1530000" cy="43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3646800" y="1888560"/>
                <a:ext cx="7081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Стрелка вниз 6"/>
            <p:cNvGrpSpPr/>
            <p:nvPr/>
          </p:nvGrpSpPr>
          <p:grpSpPr>
            <a:xfrm>
              <a:off x="4767120" y="1859040"/>
              <a:ext cx="1621440" cy="438840"/>
              <a:chOff x="4767120" y="1859040"/>
              <a:chExt cx="1621440" cy="438840"/>
            </a:xfrm>
          </p:grpSpPr>
          <p:pic>
            <p:nvPicPr>
              <p:cNvPr id="118" name="Стрелка вниз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7120" y="1859040"/>
                <a:ext cx="162144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5200920" y="1892160"/>
                <a:ext cx="7567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Прямоугольник 7"/>
            <p:cNvSpPr/>
            <p:nvPr/>
          </p:nvSpPr>
          <p:spPr>
            <a:xfrm>
              <a:off x="2705040" y="2306520"/>
              <a:ext cx="4235760" cy="3459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Обязательные предметы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8"/>
            <p:cNvSpPr/>
            <p:nvPr/>
          </p:nvSpPr>
          <p:spPr>
            <a:xfrm>
              <a:off x="3292560" y="3768840"/>
              <a:ext cx="3592800" cy="136692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2 предмета по выбор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3399"/>
                  </a:solidFill>
                  <a:latin typeface="Cambria"/>
                </a:rPr>
                <a:t>(физика, химия, биология, история, география, информатика и ИКТ, иностранные языки, обществознание, литератур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9"/>
            <p:cNvSpPr/>
            <p:nvPr/>
          </p:nvSpPr>
          <p:spPr>
            <a:xfrm>
              <a:off x="3292560" y="2954160"/>
              <a:ext cx="3592800" cy="35856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русски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10"/>
            <p:cNvSpPr/>
            <p:nvPr/>
          </p:nvSpPr>
          <p:spPr>
            <a:xfrm>
              <a:off x="3362400" y="3386160"/>
              <a:ext cx="3591000" cy="35856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Cambria"/>
                </a:rPr>
                <a:t>матема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12"/>
            <p:cNvSpPr/>
            <p:nvPr/>
          </p:nvSpPr>
          <p:spPr>
            <a:xfrm flipV="1">
              <a:off x="2111400" y="5068440"/>
              <a:ext cx="2230560" cy="666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15"/>
            <p:cNvSpPr/>
            <p:nvPr/>
          </p:nvSpPr>
          <p:spPr>
            <a:xfrm flipH="1">
              <a:off x="609480" y="6021720"/>
              <a:ext cx="126720" cy="50292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по обязательным предмет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2e3192"/>
                  </a:solidFill>
                  <a:latin typeface="Cambria"/>
                </a:rPr>
                <a:t>Пересдача неудовлетворительных результатов по одному из обязательных предме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16"/>
            <p:cNvSpPr/>
            <p:nvPr/>
          </p:nvSpPr>
          <p:spPr>
            <a:xfrm>
              <a:off x="3362400" y="5135760"/>
              <a:ext cx="3591000" cy="138888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по четырем  учебным предмет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84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4449600" y="1268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395280" y="1996920"/>
            <a:ext cx="4032360" cy="18637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При проведении ГИА-9  по учебному предмету в состав организаторов и ассистентов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не входят </a:t>
            </a: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специалисты по этому учебному предмету (ранее было только ОГЭ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556000" y="4265640"/>
            <a:ext cx="4032000" cy="13525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ГВЭ для всех категорий ОВЗ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по желанию 2 или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4721400" y="2016000"/>
            <a:ext cx="4078080" cy="1844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Определение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места для личных вещей участников ГИА до входа в ПП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Определение понятий «территория ППЭ», «вход в ППЭ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0ae4"/>
                </a:solidFill>
                <a:latin typeface="Calibri"/>
              </a:rPr>
              <a:t>Г И А в  2024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замены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определя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яв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боре экзаменов и их количестве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ное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ными представителями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 выпускник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поздне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марта 2024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57:29Z</dcterms:created>
  <dc:creator>Завуч</dc:creator>
  <dc:description/>
  <dc:language>en-US</dc:language>
  <cp:lastModifiedBy>РазбойниковаНВ</cp:lastModifiedBy>
  <dcterms:modified xsi:type="dcterms:W3CDTF">2023-09-12T09:41:09Z</dcterms:modified>
  <cp:revision>94</cp:revision>
  <dc:subject/>
  <dc:title>Слайд 1</dc:title>
</cp:coreProperties>
</file>